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363-BDC7-47E6-8783-C1D8F071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3C6-CCE5-45BD-B913-020A6136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5F4-9B6B-4B68-A83E-1AE9B606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38D-0C13-4EE7-B47B-B470D01A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9B0-5533-4CA2-9A75-939B598D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341-617B-44E4-A7F2-8E9FC0CA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21D-965C-4773-96C6-136B896F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512-BF94-43D7-982B-166E996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9CD-7750-475B-9FCF-77798A5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ADD-4728-4701-BC3E-BDE97AF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0AD-8668-46B9-9DE6-BECE0C5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4AA-20DC-4D52-88AC-3353C80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C8D-6509-41B0-B272-2F6F47AEF2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2833920" cy="437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611440" y="5713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0.04.1873 – 17.08.19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03640" y="62136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1:02:54Z</dcterms:created>
  <dc:creator>rena</dc:creator>
  <dc:description/>
  <dc:language>en-US</dc:language>
  <cp:lastModifiedBy>Andrzej</cp:lastModifiedBy>
  <dcterms:modified xsi:type="dcterms:W3CDTF">2013-07-20T06:20:33Z</dcterms:modified>
  <cp:revision>4</cp:revision>
  <dc:subject/>
  <dc:title>IGNACY MOŚCICKI</dc:title>
</cp:coreProperties>
</file>